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EA99-0015-4596-A9B9-8BB086FC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9518-80AB-4C2D-83F4-E0B034A3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16AC-3289-4B21-BB4B-CC419B74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3887-DD3D-4C39-B60F-4115674F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2383-0163-4002-B899-8EE2F0A0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4995-664F-4EDD-8351-35A816BD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16F8-A07A-41BE-AFBC-6292CCD8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376-5BB0-48E2-8402-359EC8F7E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5D70-5EC0-420E-8FDB-346FAFF8A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16E-7336-4254-A9C8-97D05E84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C934-114C-4AEA-A269-A7AF89DC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A1AC-08BA-45A9-BDA7-516402A4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AD01-2C54-4B3A-9A01-9E82A8DF7F2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ositie Optimalisaties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biele Multi-Agent Syste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and van za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213760" y="6080040"/>
            <a:ext cx="55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2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17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brui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120" y="1631880"/>
            <a:ext cx="46047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:remotedict(“tecra/ses2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reatecb(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detanswer(welk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display(welk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lone()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b:createcb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.calcdet([[1,8],[5,6]],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.calcdet([[1,28],[4,96]],c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85840" y="1554120"/>
            <a:ext cx="399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t:remotedict(“duh.tecra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alcdet(matrx,cb):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{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agentmove(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cb.detanswer(matr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61080" y="92880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cra/ses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6800" y="928800"/>
            <a:ext cx="1585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ecra/ses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4280" y="990720"/>
            <a:ext cx="0" cy="525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00400" y="4419720"/>
            <a:ext cx="3251880" cy="1066680"/>
            <a:chOff x="3200400" y="4419720"/>
            <a:chExt cx="3251880" cy="1066680"/>
          </a:xfrm>
        </p:grpSpPr>
        <p:sp>
          <p:nvSpPr>
            <p:cNvPr id="79" name=""/>
            <p:cNvSpPr/>
            <p:nvPr/>
          </p:nvSpPr>
          <p:spPr>
            <a:xfrm>
              <a:off x="4176360" y="4967280"/>
              <a:ext cx="2275920" cy="519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0000"/>
                  </a:solidFill>
                  <a:latin typeface="Times New Roman"/>
                </a:rPr>
                <a:t>Communicat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200400" y="4419720"/>
              <a:ext cx="914400" cy="761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3870000" y="2666520"/>
            <a:ext cx="1845000" cy="838800"/>
            <a:chOff x="3870000" y="2666520"/>
            <a:chExt cx="1845000" cy="838800"/>
          </a:xfrm>
        </p:grpSpPr>
        <p:sp>
          <p:nvSpPr>
            <p:cNvPr id="82" name=""/>
            <p:cNvSpPr/>
            <p:nvPr/>
          </p:nvSpPr>
          <p:spPr>
            <a:xfrm>
              <a:off x="3870000" y="2986200"/>
              <a:ext cx="1408680" cy="5191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0000"/>
                  </a:solidFill>
                  <a:latin typeface="Times New Roman"/>
                </a:rPr>
                <a:t>Migrati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952880" y="2666520"/>
              <a:ext cx="7621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343040" y="3200040"/>
            <a:ext cx="3116160" cy="1143360"/>
            <a:chOff x="4343040" y="3200040"/>
            <a:chExt cx="3116160" cy="1143360"/>
          </a:xfrm>
        </p:grpSpPr>
        <p:sp>
          <p:nvSpPr>
            <p:cNvPr id="85" name=""/>
            <p:cNvSpPr/>
            <p:nvPr/>
          </p:nvSpPr>
          <p:spPr>
            <a:xfrm>
              <a:off x="5850720" y="3824280"/>
              <a:ext cx="1608480" cy="5191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800" spc="-1" strike="noStrike">
                  <a:solidFill>
                    <a:srgbClr val="000000"/>
                  </a:solidFill>
                  <a:latin typeface="Times New Roman"/>
                </a:rPr>
                <a:t>Router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343040" y="411480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6629400" y="32000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erialisatie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94000" y="249876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9960" y="396252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371600"/>
            <a:ext cx="0" cy="365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1447920"/>
            <a:ext cx="0" cy="3581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94400" y="28036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66200" y="25750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42160" y="34131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18080" y="396252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2160" y="3962520"/>
            <a:ext cx="100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27432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29718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9920" y="2819160"/>
            <a:ext cx="7617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2971800"/>
            <a:ext cx="76176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4191120"/>
            <a:ext cx="99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14600" y="41911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41911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49760" y="1538280"/>
            <a:ext cx="9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1538280"/>
            <a:ext cx="142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84960" y="153828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220968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Serialisati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000" y="249876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114800"/>
            <a:ext cx="1981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1523880"/>
            <a:ext cx="0" cy="4648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600200"/>
            <a:ext cx="0" cy="4419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94400" y="28036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66200" y="2575080"/>
            <a:ext cx="843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2160" y="4648320"/>
            <a:ext cx="1920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GLOBA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7432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2971800"/>
            <a:ext cx="12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9718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019920" y="2819160"/>
            <a:ext cx="76176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76520" y="441972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487692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876920"/>
            <a:ext cx="2286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97480" y="1538280"/>
            <a:ext cx="956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9480" y="1538280"/>
            <a:ext cx="1428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84960" y="1538280"/>
            <a:ext cx="5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18080" y="4479840"/>
            <a:ext cx="979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0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7680" y="341316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37180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9880" y="34894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06668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38280" y="3886200"/>
            <a:ext cx="12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3886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943600" y="3733560"/>
            <a:ext cx="7621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320" y="2209680"/>
            <a:ext cx="8839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catie Transparan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gorde van berichten niet gegarande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Thesiss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34340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S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ositie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ositieplanning scheiden van uitvo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2 nivea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nningsniv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uitvoeringsnivea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1440" y="52560"/>
            <a:ext cx="162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sitie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nningsniveau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0" y="1585800"/>
          <a:ext cx="9142560" cy="43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85800"/>
                    <a:ext cx="914256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-1440" y="52560"/>
            <a:ext cx="162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sitie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nningsniveau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0" y="1616040"/>
          <a:ext cx="9142560" cy="43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16040"/>
                    <a:ext cx="914256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-1440" y="52560"/>
            <a:ext cx="162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sitie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nningsniveau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0" y="1768320"/>
          <a:ext cx="9142560" cy="4376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68320"/>
                    <a:ext cx="9142560" cy="43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-1440" y="52560"/>
            <a:ext cx="162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sitie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recte terugkoppeling vanuit de omge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Historiek Analyse/Modellen opste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aattijdige terugkoppeling vanuit eige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tatistische analyses/Heuristie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[Genetische algoritmen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1440" y="52560"/>
            <a:ext cx="162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PositiePlan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valstud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alistisch/Praktijk bruikb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Voldoende uitgebreid/verstrengeld in bestaande communicatiestructu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il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Web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FTP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List ser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720" y="5256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eth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Ontwikkeling agent syste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mplementatie van een test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lanningslaag Toevoe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ositie Optimalis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1080" y="52560"/>
            <a:ext cx="68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Actieve web componen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4 benaderingsmetho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Ontwikkelaar interac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igenaar interac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Gebruiker interac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gent interac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amenwerken met bestaande component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ar mogelijk/nuttig herschrijven we een com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720" y="52560"/>
            <a:ext cx="63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Industriele Relevan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rofiling prototypes industriele ap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ysteem administr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laatsen van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standaard interprocescommunic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AOP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: Agent Oriented Programming, het nieuwe paradigma dat de wereld gaat verove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ositieplanning is toepasbaar op andere dome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3600" y="52560"/>
            <a:ext cx="220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dustriele Relevan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bile Multi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Actiev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software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die in staat is te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communicer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met andere agents en die kan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migrere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tussen verschillende machi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user interface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intelligent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7920" y="4800600"/>
            <a:ext cx="3124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obile Multi Agent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s de taal/library die mobiele multi agents onderste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oute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communicatie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cesscontr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Looping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Agent stopt zelf zijn uitvoering en wordt dan her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nkel de agent kan zichzelf verplaat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lescrip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e agent, inclusief state, kan worden stil geleg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anager agents worden mogelij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Mobiliteit is exploiteerba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or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xtentie van Echo: pico with objects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(which was formerly known as Pico without ob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Prototype gebasseerde ta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Thunk Based Interpr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Reificatie van de Runtime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Borg Ag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de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ata Sp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</a:rPr>
              <a:t>diction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Enkele Thr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mmunicatie 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Communic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mote Object C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Asynchr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ll by deep value/Serialis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3840" y="4465800"/>
            <a:ext cx="5305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urier New"/>
              </a:rPr>
              <a:t>&lt;agent&gt;.&lt;func&gt;(&lt;par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Migr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elescrip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Remote Connecties blijven geld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erialisatie/Deserialisa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4040" y="4160880"/>
            <a:ext cx="7743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urier New"/>
              </a:rPr>
              <a:t>agentmove(&lt;plac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urier New"/>
              </a:rPr>
              <a:t>&lt;otheragent&gt;.agentmove(&lt;place&gt;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1080" y="52560"/>
            <a:ext cx="148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entsyste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1T00:24:36Z</dcterms:created>
  <dc:creator>EDS Belgium N.V.</dc:creator>
  <dc:description/>
  <dc:language>en-US</dc:language>
  <cp:lastModifiedBy>Nensie</cp:lastModifiedBy>
  <dcterms:modified xsi:type="dcterms:W3CDTF">2001-05-06T11:02:30Z</dcterms:modified>
  <cp:revision>14</cp:revision>
  <dc:subject/>
  <dc:title>Positie Optimalisaties Mobiele Multi Agent Systemen</dc:title>
</cp:coreProperties>
</file>